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F90FE5-DC35-4477-A433-BCDAB9C881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7924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914040" y="3988440"/>
            <a:ext cx="7924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6EB668-9906-4E24-89D8-FC95E0EC45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974840" y="160020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914040" y="398844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974840" y="398844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5B5B59-E297-46C1-9872-B4015027FF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2551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593520" y="1600200"/>
            <a:ext cx="2551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273360" y="1600200"/>
            <a:ext cx="2551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914040" y="3988440"/>
            <a:ext cx="2551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593520" y="3988440"/>
            <a:ext cx="2551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273360" y="3988440"/>
            <a:ext cx="2551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BE4C05-0112-4259-91F2-1611C509C5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040" y="160020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3867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74840" y="1600200"/>
            <a:ext cx="3867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523880" y="151920"/>
            <a:ext cx="73152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4840" y="1600200"/>
            <a:ext cx="3867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040" y="398844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914040" y="160020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21657D-D1C5-46FA-AE04-A8C9792AF4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3867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74840" y="160020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74840" y="398844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4840" y="160020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040" y="3988440"/>
            <a:ext cx="7924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7924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040" y="3988440"/>
            <a:ext cx="7924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74840" y="160020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040" y="398844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74840" y="398844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2551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93520" y="1600200"/>
            <a:ext cx="2551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73360" y="1600200"/>
            <a:ext cx="2551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040" y="3988440"/>
            <a:ext cx="2551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93520" y="3988440"/>
            <a:ext cx="2551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73360" y="3988440"/>
            <a:ext cx="2551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239EEC-2A79-4BDC-949E-90620F4C92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3867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74840" y="1600200"/>
            <a:ext cx="3867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6DBB7B-30F4-4233-BEE2-974B03E4AF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DF3EF5-E6C7-4607-81C0-628567015B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523880" y="151920"/>
            <a:ext cx="73152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C41A24-2E6F-4842-8B69-D21B1130F5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4840" y="1600200"/>
            <a:ext cx="3867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14040" y="398844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F77A05-C6ED-46FF-A956-A4FFBFAAB2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3867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4840" y="160020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974840" y="398844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436C2C-C6FB-47C8-833E-363A37AC92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74840" y="160020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14040" y="3988440"/>
            <a:ext cx="7924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32180F-1020-436D-B77C-E8A8F4A0CC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hyperlink" Target="http://rds.yahoo.com/S=96062857/K=medical/v=2/SID=e/l=II/R=397/SS=i/OID=68c644398765b1b0/SIG=1hr2p4h9p/EXP=1104428561/*-http%3A//images.search.yahoo.com/search/images/view?back=http%3A%2F%2Fimages.search.yahoo.com%2Fsearch%2Fimages%3Fp%3Dmedical%26toggle%3D1%26ei%3DUTF-8%26imgsz%3Dall%26fr%3DFP-tab-img-t-192%26b%3D381&amp;h=193&amp;w=206&amp;imgcurl=www.workpartners.com%2Fimages%2Fphoto-medical-services.jpg&amp;imgurl=www.workpartners.com%2Fimages%2Fphoto-medical-services.jpg&amp;size=11.0kB&amp;name=photo-medical-services.jpg&amp;rcurl=http%3A%2F%2Fwww.workpartners.com%2Fmedical-services.htm&amp;rurl=http%3A%2F%2Fwww.workpartners.com%2Fmedical-services.htm&amp;p=medical&amp;type=jpeg&amp;no=397&amp;tt=1,483,666" TargetMode="Externa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914040" y="160020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1"/>
          </p:nvPr>
        </p:nvSpPr>
        <p:spPr>
          <a:xfrm>
            <a:off x="3448080" y="6343560"/>
            <a:ext cx="3448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&lt;footer&gt;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Application Train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2"/>
          </p:nvPr>
        </p:nvSpPr>
        <p:spPr>
          <a:xfrm>
            <a:off x="6933960" y="63435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752E6-48A8-4A89-A13F-A23E5E7D4CD0}" type="slidenum">
              <a:rPr b="0" lang="en-US" sz="9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486080" y="1219320"/>
            <a:ext cx="72770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228600"/>
            <a:ext cx="731520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7" name=""/>
          <p:cNvSpPr/>
          <p:nvPr/>
        </p:nvSpPr>
        <p:spPr>
          <a:xfrm>
            <a:off x="304920" y="1371600"/>
            <a:ext cx="0" cy="5105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152280" y="1295280"/>
            <a:ext cx="0" cy="4572000"/>
          </a:xfrm>
          <a:prstGeom prst="line">
            <a:avLst/>
          </a:prstGeom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09480"/>
            <a:ext cx="1371600" cy="609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33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0"/>
            <a:ext cx="1371600" cy="609480"/>
          </a:xfrm>
          <a:prstGeom prst="rect">
            <a:avLst/>
          </a:prstGeom>
          <a:gradFill rotWithShape="0">
            <a:gsLst>
              <a:gs pos="0">
                <a:srgbClr val="0033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3672000" y="3152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" name="" descr=""/>
          <p:cNvPicPr/>
          <p:nvPr/>
        </p:nvPicPr>
        <p:blipFill>
          <a:blip r:embed="rId2"/>
          <a:stretch/>
        </p:blipFill>
        <p:spPr>
          <a:xfrm>
            <a:off x="76320" y="434880"/>
            <a:ext cx="1066680" cy="327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905120" y="3200400"/>
            <a:ext cx="7238880" cy="1981080"/>
          </a:xfrm>
          <a:prstGeom prst="rect">
            <a:avLst/>
          </a:prstGeom>
          <a:gradFill rotWithShape="0">
            <a:gsLst>
              <a:gs pos="0">
                <a:srgbClr val="003399"/>
              </a:gs>
              <a:gs pos="100000">
                <a:srgbClr val="92a7d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1447920"/>
            <a:ext cx="9144000" cy="17524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gradFill rotWithShape="0">
            <a:gsLst>
              <a:gs pos="0">
                <a:srgbClr val="738fc6"/>
              </a:gs>
              <a:gs pos="100000">
                <a:srgbClr val="0033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0" y="3200400"/>
            <a:ext cx="1905120" cy="19810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752480" y="334800"/>
            <a:ext cx="5410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Application Trai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828800" y="1676520"/>
            <a:ext cx="602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99"/>
                </a:solidFill>
                <a:latin typeface="Tahoma"/>
              </a:rPr>
              <a:t>  </a:t>
            </a:r>
            <a:r>
              <a:rPr b="1" lang="en-US" sz="4000" spc="-1" strike="noStrike">
                <a:solidFill>
                  <a:srgbClr val="003399"/>
                </a:solidFill>
                <a:latin typeface="Tahoma"/>
              </a:rPr>
              <a:t>Tit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5181480"/>
            <a:ext cx="2743200" cy="1676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8160" y="5638680"/>
            <a:ext cx="1714320" cy="7668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4038480" y="5181480"/>
            <a:ext cx="5105520" cy="137160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Go to fullsize image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905120" y="5181480"/>
            <a:ext cx="2133360" cy="16765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057400" y="4648320"/>
            <a:ext cx="69343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Na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C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HHS bird logo"/>
          <p:cNvPicPr/>
          <p:nvPr/>
        </p:nvPicPr>
        <p:blipFill>
          <a:blip r:embed="rId6"/>
          <a:stretch/>
        </p:blipFill>
        <p:spPr>
          <a:xfrm>
            <a:off x="8477280" y="5829480"/>
            <a:ext cx="514440" cy="571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914040" y="152388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PART D APPLICATION TRAINING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JANUARY 31, 2006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940AFF-941E-492E-86F8-FC9B5E35383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ahoma"/>
              </a:rPr>
              <a:t>Application Section:  Service Area and Pharmacy Access</a:t>
            </a:r>
            <a:endParaRPr b="1" lang="en-US" sz="32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Service Area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DP Regions, MA-PD Regions for RPPOs, Local MA-P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Retail Pharmacy Access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RICARE standards for convenient acces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Home Infusion Pharmacy Access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emonstrate adequate acces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Long-Term Care Pharmacy Access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emonstrate convenient acces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I/T/U Pharmacy Access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nsure convenient acces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ny Willing Pharmacy Requirements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ECBA0B-382F-435D-9C47-45A339F8F7D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ahoma"/>
              </a:rPr>
              <a:t>Application Section:  Pharmacy Access</a:t>
            </a:r>
            <a:r>
              <a:rPr b="1" lang="en-US" sz="3200" spc="-1" strike="noStrike">
                <a:solidFill>
                  <a:srgbClr val="ffcc66"/>
                </a:solidFill>
                <a:latin typeface="Tahoma"/>
              </a:rPr>
              <a:t>	</a:t>
            </a:r>
            <a:endParaRPr b="1" lang="en-US" sz="32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pplication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mplete a series of attestation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ubmit contract templates of the standard terms and conditions for its downstream contracts between the organization and the types of pharmacies that constitute the Part D pharmacy network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AB2334-6EBC-47C9-B6B8-E7D7C94EB29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ahoma"/>
              </a:rPr>
              <a:t>Application Section: Pharmacy Access, Retail</a:t>
            </a:r>
            <a:r>
              <a:rPr b="1" lang="en-US" sz="3200" spc="-1" strike="noStrike">
                <a:solidFill>
                  <a:srgbClr val="ffcc66"/>
                </a:solidFill>
                <a:latin typeface="Tahoma"/>
              </a:rPr>
              <a:t>	</a:t>
            </a:r>
            <a:endParaRPr b="1" lang="en-US" sz="32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Using the Geographic Information System (GIS) or similar software to demonstrate pharmacy access ratios for urban, suburban, and rural zip codes 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Provide a list of the contracted retail pharmacies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ollow the instructions precisely. Use templates provided.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D8C27F-F5CE-445C-B3AD-31F717C8DCF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ahoma"/>
              </a:rPr>
              <a:t>Application Section: Pharmacy Access, Home Infusion</a:t>
            </a:r>
            <a:endParaRPr b="1" lang="en-US" sz="32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Using the number of Medicare Beneficiaries in each region (provided by CMS), provide ratios for the contracted home infusion pharmacies to demonstrate adequate access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Provide a list of the contracted home infusion pharmacies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ollow the instructions precisely. Use templates provided.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D86135-38A1-4148-ACD7-E3B1C106F54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ahoma"/>
              </a:rPr>
              <a:t>Application Section:  Pharmacy Access, Long-Term Care (LTC)</a:t>
            </a:r>
            <a:endParaRPr b="1" lang="en-US" sz="32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Using the number of nursing home beds available in each region (provided by CMS), provide ratios for the contracted LTC pharmacies to demonstrate convenient access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Provide a list of the contracted LTC pharmacies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ollow the instructions precisely. Use templates provided.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5FF397-94BB-43DD-883E-820157ADD2D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ahoma"/>
              </a:rPr>
              <a:t>Application Section:  Pharmacy Access, I/T/U</a:t>
            </a:r>
            <a:endParaRPr b="1" lang="en-US" sz="32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I/T/U addendum is provided by CMS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Provide a pharmacy list that demonstrates a contract has been offered to every I/T/U pharmacy in applicant’s service area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Pharmacy list must identify contract status: 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ccepte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Under Negotia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ecline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Follow the instructions precisely. Use templates provided.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97327B-F9D8-4343-9539-E602CB71D10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ahoma"/>
              </a:rPr>
              <a:t>Application Section:  Enrollment and Eligibility</a:t>
            </a:r>
            <a:endParaRPr b="1" lang="en-US" sz="32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Complete attestations related to enrollment and eligibility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Refer to guidance posted at www.cms.hhs.gov/PrescriptionDrugCovContra/Downloads/PDP_EnrollmentGuidance_08.29.05.pdf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An individual is eligible for Part D, provided that he or she: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s entitled to Part A OR enrolled in Part B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Lives in the service area of a Part D pla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Types of Enrollment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nitial enrollment is a 7-month period (three months before eligibility for Part D, the month of eligibility, and three months after eligibility for Part 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pecial enrollments include when beneficiary moves outside service area, plan nonrenewable/contract termination; or contract viola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5BC45D-F5FB-4C9D-AF13-AFFFC4A2378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Tahoma"/>
              </a:rPr>
              <a:t>Application Section:  Enrollment and Eligibility, Full Subsidy</a:t>
            </a:r>
            <a:endParaRPr b="1" lang="en-US" sz="2400" spc="-1" strike="noStrike">
              <a:solidFill>
                <a:srgbClr val="ffcc66"/>
              </a:solidFill>
              <a:latin typeface="Tahoma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914400" y="1600200"/>
          <a:ext cx="7924680" cy="4727520"/>
        </p:xfrm>
        <a:graphic>
          <a:graphicData uri="http://schemas.openxmlformats.org/drawingml/2006/table">
            <a:tbl>
              <a:tblPr/>
              <a:tblGrid>
                <a:gridCol w="2641680"/>
                <a:gridCol w="1709640"/>
                <a:gridCol w="3573360"/>
              </a:tblGrid>
              <a:tr h="63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ull Subsidy Subcatego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% of Premium Subsidy Amou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o-pay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ull-benefit dual eligible – institutionalized individu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00%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$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ull-benefit dual eligible–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come at or below 100% FP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non-institutionalized individual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00%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ffffff"/>
                          </a:solidFill>
                          <a:uFillTx/>
                          <a:latin typeface="Tahoma"/>
                        </a:rPr>
                        <a:t>up to out-of-pocket limit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ot to exceed $1- generic/preferred multiple source and $3-other drugs 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ffffff"/>
                          </a:solidFill>
                          <a:uFillTx/>
                          <a:latin typeface="Tahoma"/>
                        </a:rPr>
                        <a:t>above out-of-pocket limit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- $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ull-benefit dual eligible –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come above 100% FP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non-institutionalized individual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00%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ffffff"/>
                          </a:solidFill>
                          <a:uFillTx/>
                          <a:latin typeface="Tahoma"/>
                        </a:rPr>
                        <a:t>up to out-of-pocket limit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ot to exceed $2- generic/preferred multiple source and $5-other drug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ffffff"/>
                          </a:solidFill>
                          <a:uFillTx/>
                          <a:latin typeface="Tahoma"/>
                        </a:rPr>
                        <a:t>above out-of-pocket limit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- $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5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on-full benefit dual eligible beneficiary with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-Income below 135% FP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-Assets that do not exceed $6,000/$9,000 limi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00%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 u="sng">
                          <a:solidFill>
                            <a:srgbClr val="ffffff"/>
                          </a:solidFill>
                          <a:uFillTx/>
                          <a:latin typeface="Tahoma"/>
                        </a:rPr>
                        <a:t>up to out-of-pocket limit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ot to exceed $2- generic/preferred multiple source and $5-other drug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 u="sng">
                          <a:solidFill>
                            <a:srgbClr val="ffffff"/>
                          </a:solidFill>
                          <a:uFillTx/>
                          <a:latin typeface="Tahoma"/>
                        </a:rPr>
                        <a:t>above out-of-pocket limit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- $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EC8F00-D6B7-40F5-9188-379A88B8F61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Tahoma"/>
              </a:rPr>
              <a:t>Application Section:  Enrollment and Eligibility, Other Low-Income Subsidy</a:t>
            </a:r>
            <a:endParaRPr b="1" lang="en-US" sz="2400" spc="-1" strike="noStrike">
              <a:solidFill>
                <a:srgbClr val="ffcc66"/>
              </a:solidFill>
              <a:latin typeface="Tahoma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914400" y="1600200"/>
            <a:ext cx="7924680" cy="4794120"/>
            <a:chOff x="914400" y="1600200"/>
            <a:chExt cx="7924680" cy="4794120"/>
          </a:xfrm>
        </p:grpSpPr>
        <p:sp>
          <p:nvSpPr>
            <p:cNvPr id="133" name=""/>
            <p:cNvSpPr/>
            <p:nvPr/>
          </p:nvSpPr>
          <p:spPr>
            <a:xfrm>
              <a:off x="5730840" y="4729320"/>
              <a:ext cx="3108240" cy="16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ffffff"/>
                  </a:solidFill>
                  <a:uFillTx/>
                  <a:latin typeface="Tahoma"/>
                </a:rPr>
                <a:t>up to out-of-pocket limit</a:t>
              </a: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3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5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$50 deductib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5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15% coinsurance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ffffff"/>
                  </a:solidFill>
                  <a:uFillTx/>
                  <a:latin typeface="Tahoma"/>
                </a:rPr>
                <a:t>above out-of-pocket limit</a:t>
              </a: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  - $ An amount that does not exceed $2- generic/preferred multiple source and $5-other drugs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178160" y="4729320"/>
              <a:ext cx="1552680" cy="16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Sliding scale premium subsidy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914400" y="4729320"/>
              <a:ext cx="3263760" cy="16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Non-full benefit dual eligible beneficia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-with income below 150% FPL and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-with assets that do not exceed $10,000 (individuals) or $20,000(couples)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730840" y="2428920"/>
              <a:ext cx="3108240" cy="230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ffffff"/>
                  </a:solidFill>
                  <a:uFillTx/>
                  <a:latin typeface="Tahoma"/>
                </a:rPr>
                <a:t>up to out-of-pocket limit</a:t>
              </a: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3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5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$50 deductib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5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15% coinsurance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ffffff"/>
                  </a:solidFill>
                  <a:uFillTx/>
                  <a:latin typeface="Tahoma"/>
                </a:rPr>
                <a:t>above out-of-pocket limit</a:t>
              </a: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  - $ An amount that does not exceed $2- generic/preferred multiple source and $5-other drugs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178160" y="2428920"/>
              <a:ext cx="1552680" cy="230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100%</a:t>
              </a: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914400" y="2428920"/>
              <a:ext cx="3263760" cy="230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Non-full benefit dual eligible Beneficia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- with income below 135% FPL, and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- with assets that exceed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$6,000 but do not exceed $10,000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(individuals) or with assets that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exceed $9,000 but do not exceed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$20,000 (couples)</a:t>
              </a: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730840" y="1600200"/>
              <a:ext cx="3108240" cy="82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Cost Shar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191120" y="1600200"/>
              <a:ext cx="1552320" cy="82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% of Premium Subsidy Amount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914400" y="1600200"/>
              <a:ext cx="3263760" cy="82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Other Low-income Subsidy Sub-catego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914400" y="1600200"/>
              <a:ext cx="79246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914400" y="6394320"/>
              <a:ext cx="79246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914400" y="1600200"/>
              <a:ext cx="0" cy="479412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178160" y="1600200"/>
              <a:ext cx="0" cy="479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730840" y="1600200"/>
              <a:ext cx="0" cy="479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8839080" y="1600200"/>
              <a:ext cx="0" cy="479412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914400" y="2428920"/>
              <a:ext cx="7924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914400" y="4729320"/>
              <a:ext cx="7924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2959DA-E45F-4CE5-B290-45BBB9E2B0B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Tahoma"/>
              </a:rPr>
              <a:t>Application Section: </a:t>
            </a:r>
            <a:br>
              <a:rPr sz="2800"/>
            </a:br>
            <a:r>
              <a:rPr b="1" lang="en-US" sz="2800" spc="-1" strike="noStrike">
                <a:solidFill>
                  <a:srgbClr val="ffcc66"/>
                </a:solidFill>
                <a:latin typeface="Tahoma"/>
              </a:rPr>
              <a:t>Grievances, Coverage Determinations and Appeals</a:t>
            </a:r>
            <a:endParaRPr b="1" lang="en-US" sz="28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ttest to statements related to grievances, coverage determinations and appeals.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Provide the policies and procedures for beneficiary coverage determinations, exceptions and appeals.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dditional information is provided in Chapter 18 of the Prescription Drug Benefit Manual or the Part D QIC Reconsideration Process Manual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A8BC79-1F25-4A69-B944-A3CBF279E90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ahoma"/>
              </a:rPr>
              <a:t>Steps to Become a Part D Sponsor</a:t>
            </a:r>
            <a:br>
              <a:rPr sz="3200"/>
            </a:br>
            <a:endParaRPr b="1" lang="en-US" sz="32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Submit Part D Application  -- March 20, 2006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Submit Formulary – April 17, 2006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Submit Bid – June 5, 2006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Submit Marketing Materials – Summer 2006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Test Systems –Summer 2006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Execute Contract –Early Fall 2006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ccording to 42 CFR 423.503 (c), application approval determination is subject to redetermination and appeal process.  Formulary and bid are subject to negotiation, not to redetermination and appeal process.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33C744-7F74-4B99-8C53-871E50FC641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ahoma"/>
              </a:rPr>
              <a:t>Application Section:  </a:t>
            </a:r>
            <a:br>
              <a:rPr sz="3200"/>
            </a:br>
            <a:r>
              <a:rPr b="1" lang="en-US" sz="3200" spc="-1" strike="noStrike">
                <a:solidFill>
                  <a:srgbClr val="ffcc66"/>
                </a:solidFill>
                <a:latin typeface="Tahoma"/>
              </a:rPr>
              <a:t>Coordination of Benefits</a:t>
            </a:r>
            <a:endParaRPr b="1" lang="en-US" sz="32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ttest to statements related to coordination of  benefits 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ttest to developing and operating a system for collecting information from enrollees about enrollees’ other health insurance, including whether such insurance covers outpatient prescription drugs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ttest to permitting SPAPs and other third-party payers to coordinate benefits.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E015ED-3400-4876-9EBE-5C6E928A4A8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ahoma"/>
              </a:rPr>
              <a:t>Application Section:  TrOOP</a:t>
            </a:r>
            <a:endParaRPr b="1" lang="en-US" sz="36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ttest to tracking each enrollee’s TrOOP costs reflecting the amount the enrollee has spent during a program year on covered outpatient prescription drugs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ttest to accepting data concerning third-party payers for use in the applicant’s TrOOP calculation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ttest to providing each enrollee with a report on his or her TrOOP status at least quarterly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9F5390-03AE-40BD-A7C9-92C57A1E651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ahoma"/>
              </a:rPr>
              <a:t>Application Section:  Marketing</a:t>
            </a:r>
            <a:endParaRPr b="1" lang="en-US" sz="32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omplete series of attestations related to marketing and beneficiary communications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Submit marketing materials for review by CMS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nnually provide enrollees information about PDP features, including enrollment procedures, premiums, formulary, benefits, and pharmacy network.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Maintain a toll-free line open during normal business hours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Maintain an Internet website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4555D9-354C-4A48-B9E0-3309D86A60D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ahoma"/>
              </a:rPr>
              <a:t>Application Section:  HIPAA and Claims Processing</a:t>
            </a:r>
            <a:endParaRPr b="1" lang="en-US" sz="32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ttest to being HIPAA complian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ttest to provisions related to claims processing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AAAA34-D8B2-4DC6-9839-547DCF1D1BB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Tahoma"/>
              </a:rPr>
              <a:t>Part D Service Area Expansion Application</a:t>
            </a:r>
            <a:endParaRPr b="1" lang="en-US" sz="28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For existing Part D contractors (PDP, MA-PD, Cost Plans, etc) expanding the service area beyond their existing contract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For PDPs, only complete licensure and solvency sections for each State in new PDP region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ll PDP, Regional MA-PD and Cost Plan, and Direct Employer contractors expanding their Part D service area,  must complete the Pharmacy Access Submission for ONLY the new service area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Local MA-PDs contractors seeking to expand their Part D service area, should submit the pharmacy access data for the ENTIRE service area.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B326A2-4969-4B10-BC4D-15F635C9714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ahoma"/>
              </a:rPr>
              <a:t>General Application Instructions</a:t>
            </a:r>
            <a:endParaRPr b="1" lang="en-US" sz="32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ll applications are due to CMS no later than close of business March 20, 2006.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pplicants must submit 2 hard copies and 4 cds of the base submission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pplicants must submit 1 hard copy and 4 sets of the cds (each set is 2 cds) of the pharmacy access submission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For further information or questions on the Part D Applications contact Marla Rothouse at marla.rothouse@cms.hhs.gov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30E9D7-8E0C-4511-A97F-B986F7CFB66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ahoma"/>
              </a:rPr>
              <a:t>RENEWALS</a:t>
            </a:r>
            <a:endParaRPr b="1" lang="en-US" sz="36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MS is required to issue all Part D sponsors on or before May 1, 2006, a notice of our decision to renew or non-renew sponsors’ contracts for the 2007 program year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MS will make this determination during the Spring of 2006 based on a review of each sponsor’s compliance with Part D program requirements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Part D sponsors that elect to non-renew their contracts must notify CMS of their decision on or before June 5, 2006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D4BC9C-DDD5-4FDE-9BF5-7AE51C9A85E3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ahoma"/>
              </a:rPr>
              <a:t>Part D Application</a:t>
            </a:r>
            <a:endParaRPr b="1" lang="en-US" sz="36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Part D Application for new Part D contracts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tand Alone PDP Applicatio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A-PD Applicatio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ost-Based Applicatio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ACE Part D Applicatio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irect Employer Applicatio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Part D Application separate from Part C Application (for all new MA-PDs, and Cost Plans, PACE and Direct Employer products that include Part D)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Pharmacy Access Submission 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– key component of Part D application, documents are separate because of length</a:t>
            </a:r>
            <a:endParaRPr b="1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Part D Service Area Expansion Application – 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for SAE within an existing contract</a:t>
            </a:r>
            <a:endParaRPr b="1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Annual Renewal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– no application for all existing contractors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364C7F-ED0B-4F18-BC2F-4F123E548FD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ahoma"/>
              </a:rPr>
              <a:t>Format of Part D Application</a:t>
            </a:r>
            <a:endParaRPr b="1" lang="en-US" sz="36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ttestations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ppendices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Key Subregulatory Policy Guidance References: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ormulary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-TrOOP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arketing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-Coordination of Benefi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nrollment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-Low-income Subsid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ong-Term Care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-Reporting Requiremen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id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-PDP Service Area Regio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A-PD Service Area Regions for RPP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23F65E-1EFB-4EAC-8422-5E7283A9BE5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ahoma"/>
              </a:rPr>
              <a:t>Application Section:</a:t>
            </a:r>
            <a:br>
              <a:rPr sz="3200"/>
            </a:br>
            <a:r>
              <a:rPr b="1" lang="en-US" sz="3200" spc="-1" strike="noStrike">
                <a:solidFill>
                  <a:srgbClr val="ffcc66"/>
                </a:solidFill>
                <a:latin typeface="Tahoma"/>
              </a:rPr>
              <a:t>Management and Operations</a:t>
            </a:r>
            <a:endParaRPr b="1" lang="en-US" sz="32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Business Integrity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ttest to statements related to administrative and management of operation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ontracts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rovide copies of executed contracts with PBM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orporate Structure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rovide a brief summary of organization’s history, ownership, subsidiaries and business affiliation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ompliance Plan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ubmit a compliance plan for the Part D program that may include but must oversee the compliance plan used by the contracted PBM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E47BF7-13B7-4BC8-9BCF-52874421707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ahoma"/>
              </a:rPr>
              <a:t>Application Section:</a:t>
            </a:r>
            <a:br>
              <a:rPr sz="3200"/>
            </a:br>
            <a:r>
              <a:rPr b="1" lang="en-US" sz="3200" spc="-1" strike="noStrike">
                <a:solidFill>
                  <a:srgbClr val="ffcc66"/>
                </a:solidFill>
                <a:latin typeface="Tahoma"/>
              </a:rPr>
              <a:t>Licensure and Solvency</a:t>
            </a:r>
            <a:endParaRPr b="1" lang="en-US" sz="32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Basic Requirements: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ust be licensed as a risk-bearing entit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f not licensed to bear risk in at least one state, must provide financial solvency document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ust complete a Licensure Waiver Application for each state where applicant not licensed but seeks to operate a PDP (State waiver– 3 years, PDP Regional waiver– 1 year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2007 contract year is the last opportunity for these  special waivers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E21511-9264-4819-8A64-EB3B7C2A7D7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ahoma"/>
              </a:rPr>
              <a:t>Application Section:  </a:t>
            </a:r>
            <a:br>
              <a:rPr sz="3200"/>
            </a:br>
            <a:r>
              <a:rPr b="1" lang="en-US" sz="3200" spc="-1" strike="noStrike">
                <a:solidFill>
                  <a:srgbClr val="ffcc66"/>
                </a:solidFill>
                <a:latin typeface="Tahoma"/>
              </a:rPr>
              <a:t>Benefit Design</a:t>
            </a:r>
            <a:endParaRPr b="1" lang="en-US" sz="32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Pharmacy &amp; Therapeutics Committee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pplicant (or Applicant’s PBM) is required to submit names of P&amp;T Committee member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&amp;T Committee members must not appear on OIG websit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Utilization Management Standards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omplete attestations related to UM standar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Quality Assurance and Patient Safety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omplete attestations related to quality and patient safet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Medication Therapy Management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omplete attestations related to MTM and provide detailed description of the MTM program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842F14-22F0-4333-B79F-9834EE509AD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ahoma"/>
              </a:rPr>
              <a:t>Application Section: Formulary</a:t>
            </a:r>
            <a:endParaRPr b="1" lang="en-US" sz="32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Complete attestations related to formularies.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Actual formulary submission is component of bid, not application, therefore formulary review determination is not subject to reconsideration and appeal.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Submission of formulary will be through HPMS system. Procedure same for MA-PD and PDP. (Submit flat file in ASCII format)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Formulary uploads will include plan name, formulary name, number of tiers, classification structure, prior authorization attachment, and step therapy attachment.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Draft formulary guidance will be issued in early February with the final guidance issued in early March.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Formularies must be submitted by April 17, 2005 at 5pm EDT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7F2C18-EAED-4BAA-8C65-409D27BAE19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ahoma"/>
              </a:rPr>
              <a:t>Application Section:  Bids</a:t>
            </a:r>
            <a:endParaRPr b="1" lang="en-US" sz="36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Applicant attests that it will comply with CMS guidance related to bids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Actual bid submission is not a component of the application, therefore bid review determination is not subject to reconsideration and appeal.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Submission of bid will be through HPMS system.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Must complete the Bid Pricing Tool (BPT) and PDP data entry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PDP Applicant will not submit more than 3 bids per plan (includes bids from parent organization)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A-PD and Cost Plans not restricted to 3 bids where the organization is offering various Part C options (e.g. MA-PD with and without SNPs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"/>
          <p:cNvSpPr/>
          <p:nvPr/>
        </p:nvSpPr>
        <p:spPr>
          <a:xfrm>
            <a:off x="1083600" y="5862600"/>
            <a:ext cx="3936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Bids are due to CMS June 5, 200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F446BD-1FA5-4F26-AE1C-8B0989CD6F3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30T15:25:51Z</dcterms:created>
  <dc:creator>blebowitz</dc:creator>
  <dc:description/>
  <dc:language>en-US</dc:language>
  <cp:lastModifiedBy>CMS</cp:lastModifiedBy>
  <dcterms:modified xsi:type="dcterms:W3CDTF">2006-01-19T17:05:04Z</dcterms:modified>
  <cp:revision>2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828165903</vt:r8>
  </property>
  <property fmtid="{D5CDD505-2E9C-101B-9397-08002B2CF9AE}" pid="3" name="_AuthorEmail">
    <vt:lpwstr>Duva.Clyburn@cms.hhs.gov</vt:lpwstr>
  </property>
  <property fmtid="{D5CDD505-2E9C-101B-9397-08002B2CF9AE}" pid="4" name="_AuthorEmailDisplayName">
    <vt:lpwstr>Clyburn, Duva L. (CMS/CBC)</vt:lpwstr>
  </property>
  <property fmtid="{D5CDD505-2E9C-101B-9397-08002B2CF9AE}" pid="5" name="_EmailSubject">
    <vt:lpwstr>Postings for the 1/31 broadcast</vt:lpwstr>
  </property>
  <property fmtid="{D5CDD505-2E9C-101B-9397-08002B2CF9AE}" pid="6" name="_NewReviewCycle">
    <vt:lpwstr/>
  </property>
</Properties>
</file>